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тегрисане академске студије фармације</a:t>
            </a:r>
            <a:endParaRPr b="0" lang="en-US" sz="36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мет: Енглески јези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авач: Душица Лази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list of all words that can be used to describe the following:</a:t>
            </a:r>
            <a:endParaRPr b="0" lang="en-US" sz="28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e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short essay:</a:t>
            </a:r>
            <a:endParaRPr b="0" lang="en-US" sz="28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short essay about drug side eff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Side Effects</a:t>
            </a:r>
            <a:endParaRPr b="0" lang="en-US" sz="28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side effects are numerous and varied, depending on the drug itself and the interaction of the drug with other drugs and substances in a person’s body; drug side effects may range in severity from major to minor, and some may even be life threatening. Drug side effects are always important to be aware of, whether the drug is illicit or a prescription drug that is given by your family physician. Most prescription drug side effects can be fully explained by your local pharmac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t of the lesson can be found in the textbook “English Language in Pharmacy Practice” by Leontina Kernic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e eff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ic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ig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nkil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 points:</a:t>
            </a:r>
            <a:endParaRPr b="0" lang="en-US" sz="28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drug side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ous drug side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ction as one of the negative drug side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of drug treat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nouns corresponding to the following adjectives:</a:t>
            </a:r>
            <a:endParaRPr b="0" lang="en-US" sz="28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he correct word:</a:t>
            </a:r>
            <a:endParaRPr b="0" lang="en-US" sz="28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meeting was really__________. (disappointed/disappo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__________ for us to ask people about their private lives. (embarrassed/embarra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looks so ___________. Has he been working all day? (exhausted/exhaus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cture was very ___________. Many students fell asleep. (bored/bo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as really ___________ when they offered me a job in this company. (amazed/amazin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he correct word:</a:t>
            </a:r>
            <a:endParaRPr b="0" lang="en-US" sz="28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need to get __________ about that trip. (excited/exci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__________ news for her. (shocked/shoc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explanation was ____________. We didn’t understand you. (confused/confu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AN or THE where necessary: </a:t>
            </a:r>
            <a:endParaRPr b="0" lang="en-US" sz="28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n’t her fault. It was _____ accid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 heart pumps ______ blood throughout ______ bod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didn’t feel well yesterday. She had _______ pain in her bac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sister has had one of ______ negative drug side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 injured were taken to _______hospi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sentences given below with the following modal verbs:</a:t>
            </a:r>
            <a:br>
              <a:rPr sz="2400"/>
            </a:br>
            <a:r>
              <a:rPr b="0" lang="en-US" sz="2400" spc="-1" strike="noStrike">
                <a:solidFill>
                  <a:srgbClr val="000000"/>
                </a:solidFill>
                <a:latin typeface="Arial"/>
              </a:rPr>
              <a:t>can, could, must, may, might, should, ought to, need</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sked if he ________ come to my office at 2 o’cloc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 I put these books here? Yes, you _______</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_______see her doctor. She doesn’t feel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believed that he ________not do such a terrible th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 I leave now? No, you ________.</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_______ not go to the pharmacy today. I _______ do that tomorr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ink you _______ apologize for what you have s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knows that he _________ mention his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3-02-14T10:23:20Z</dcterms:modified>
  <cp:revision>18</cp:revision>
  <dc:subject/>
  <dc:title>Slide 1</dc:title>
</cp:coreProperties>
</file>